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6536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69880"/>
            <a:ext cx="1046484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2066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69880"/>
            <a:ext cx="5106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2066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69880"/>
            <a:ext cx="3369600" cy="69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0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7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2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6   ÷    2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4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54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56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64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2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8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70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5   ÷    5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72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5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0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0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8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4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6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2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6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5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0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2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0   ÷    2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8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6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54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8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1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0   ÷    5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56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1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63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9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4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6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4   ÷    2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8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4   ÷    8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7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8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2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8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70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6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54   ÷    9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2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56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4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5   ÷    5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1   ÷    7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27   ÷    3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2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Fin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8   ÷    6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36   ÷    4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18   ÷    2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3664080"/>
            <a:ext cx="129920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Chalkboard"/>
                <a:ea typeface="Chalkboard"/>
              </a:rPr>
              <a:t>40   ÷    5</a:t>
            </a:r>
            <a:endParaRPr b="0" lang="en-US" sz="1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